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BB4-D08B-4829-BA6B-996F8BA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7BF-7A6D-4EB2-9747-69FF56CF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3AE-0577-4270-8361-5225ED10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1F3-0030-42EB-AA26-1B9C2C85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1B9-6A85-4C8D-8725-D2E47AD8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848-CA72-48C1-970B-C92E7179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897-53A2-4A4E-9ABA-4E8353E7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1A9-3D6A-4ACD-A32F-6BA79A6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355-3AA6-41E3-9B1C-90EFBA7C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D6C-1570-47C7-8C11-F38E72C1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7FD-910A-4987-BAB5-1F6DC9DE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DC4-A5D7-4550-9881-AA2AF90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55C5-FE38-41D7-8ABB-FC8C535F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-928440"/>
            <a:ext cx="65516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bbe0e3"/>
                </a:solidFill>
                <a:latin typeface="Bookman Old Style"/>
              </a:rPr>
              <a:t>9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акъв,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р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ез всяко извин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и Теб аз, греш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Твоя храм дошел съм, 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8000" y="-418320"/>
            <a:ext cx="56530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Какъвто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а кръ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е мойто упов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вечна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 любов аз вярва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360" y="-130464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3. Такъв, какъвто съм: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рби отвън, отвътре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трахове, Ти Покровител ми бъди!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1640" y="-83160"/>
            <a:ext cx="565308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Какъвто съ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ляп, сиромах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здраве и спасени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избавление от грях 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м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15920"/>
            <a:ext cx="4178520" cy="5229360"/>
          </a:xfrm>
          <a:prstGeom prst="rect">
            <a:avLst/>
          </a:prstGeom>
          <a:ln w="381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0" y="-488520"/>
            <a:ext cx="565308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5. Какъвто съм, но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ярвам а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ъв Твойт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обещ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туй покор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ч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шел съ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ожи Агнец скъп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46:23Z</dcterms:created>
  <dc:creator>TrifonTrifonow</dc:creator>
  <dc:description/>
  <dc:language>en-US</dc:language>
  <cp:lastModifiedBy>TrifonTrifonow</cp:lastModifiedBy>
  <dcterms:modified xsi:type="dcterms:W3CDTF">2005-11-22T09:16:01Z</dcterms:modified>
  <cp:revision>16</cp:revision>
  <dc:subject/>
  <dc:title>Slide 1</dc:title>
</cp:coreProperties>
</file>